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DB70-DD12-4FD7-BBD4-D63EBEA9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D61-D327-4FA5-9DF2-AB89EB5B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322F-F1B5-472C-9EBC-583AC5CC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5D5-AB47-4583-8561-6FEEE5C3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F0D7-0604-429E-848B-C9F52DB8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5DEF-3E03-4654-8958-CAF03A9D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20EB-9733-437E-92F9-F5C32605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8261-A405-40FC-9BE3-2ABF4FBA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74F4-BAA1-4556-AE68-8EFFE03B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5D0A-752D-4163-A2CA-58286204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68BD-5AE4-405D-9EF6-3E057FAC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1ED7-F497-4FC9-9560-4331C285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427E-5A8E-4EA5-BDA9-F82E8DC7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0B6E-B593-4015-9F51-2610D3B1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6DF4-F077-49FF-931E-798A73B2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8A24-F885-425C-842B-5303E37D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6B2B-F215-4FB1-A192-B7C66347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DB6B-2346-4E82-8121-86A236FB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6F42-3B78-426F-95CC-CE390E31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3ADC-1373-4A2F-B8CD-55764951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EE7-C033-4843-8011-09CE4B2B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97E9-7EE1-44AC-8E46-A31C7388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285-C14B-457B-B8EB-57C55844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0574-58AD-4AF4-A512-95156166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2EB6-1743-4A62-88BD-6248EE924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9F57-B9AC-432B-B4B8-A1C8E28A01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2130120"/>
            <a:ext cx="8839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ccecff"/>
                </a:solidFill>
                <a:latin typeface="Times New Roman"/>
              </a:rPr>
              <a:t>Путеви преношења заразних болест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ЗЕМЉИШТ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улога у преношењу заразних боле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улога у преношењу незаразних боле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3911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ЗЕМЉИШТ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ИРЕКТНИ ЕФЕКТ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ДИРЕКТНИ ЕФЕК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едмети и биолошки материј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р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а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екто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ПРЕДМЕТИ И БИОЛОШКИ МАТЕРИЈ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Значајан пут преношења проузроковача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тпорних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 спољ. средини или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сетљивих у случају свеж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контамин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Чест пут преношења у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игијенској среди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2/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ПРЕДМЕ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РУКЕ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БИОЛОШКИ ПРОДУК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</a:t>
            </a: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 контактних епидемиј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зерво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743200" y="2437920"/>
            <a:ext cx="6094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304812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82000" y="213372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непосредним путем (директни контак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3352680"/>
            <a:ext cx="50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посредним путем-загађеним предмети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(индир. контак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контактних епидемија? 1/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ПОСТЕПЕН ПОЧЕТ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2.   ДУГО ТРАЈАЊЕ епидемије и ПРОГРЕСИВАН 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ЦЕНТРИФУГАЛНО  ширење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4.   Везаност за ЛОШЕ ХИГИЈЕНСКЕ усло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контактних епидемија? 2/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ОДСУСТВО ВЕЗАНОСТИ ЗА СЕЗОН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МОНОТИПИЈ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ПОЈАВА КОНТАКТНОГ РЕП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ије идеално средство за одржавање патогених микроорганиза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оузроковачи заразних болести разређ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CS" sz="3200" spc="-1" strike="noStrike">
                <a:solidFill>
                  <a:srgbClr val="ccecff"/>
                </a:solidFill>
                <a:latin typeface="Times New Roman"/>
              </a:rPr>
              <a:t>Путеви преношења заразних болести</a:t>
            </a:r>
            <a:br>
              <a:rPr sz="3200"/>
            </a:br>
            <a:br>
              <a:rPr sz="3600"/>
            </a:br>
            <a:r>
              <a:rPr b="1" lang="sr-Latn-CS" sz="20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1" lang="sr-C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директно</a:t>
            </a:r>
            <a:br>
              <a:rPr sz="2000"/>
            </a:br>
            <a:r>
              <a:rPr b="0" lang="sr-CS" sz="2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Резервоар</a:t>
            </a:r>
            <a:r>
              <a:rPr b="0" lang="sr-C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ccecff"/>
                </a:solidFill>
                <a:latin typeface="Arial"/>
              </a:rPr>
              <a:t>                                  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Осетљива особа</a:t>
            </a:r>
            <a:br>
              <a:rPr sz="2000"/>
            </a:br>
            <a:r>
              <a:rPr b="0" lang="sr-CS" sz="2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ccecff"/>
                </a:solidFill>
                <a:latin typeface="Arial"/>
              </a:rPr>
              <a:t>II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индиректно</a:t>
            </a: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ДИРЕКТ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Директни или непосредни конта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загађене ру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пољуба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полни а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порођајни п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ује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2.      Капљиц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3.      Трансплацентар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4.      Земљиштем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57440" y="2285640"/>
            <a:ext cx="34290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ИНДИРЕКТ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редмети и биолошки материј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Хр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Вазду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Векто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1676520"/>
            <a:ext cx="22860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er 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кол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трбушни тиф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паратиф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хепатитис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дизентер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цревни парази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хидричних епидемија</a:t>
            </a:r>
            <a:r>
              <a:rPr b="0" lang="sr-CS" sz="4000" spc="-1" strike="noStrike">
                <a:solidFill>
                  <a:srgbClr val="ccecff"/>
                </a:solidFill>
                <a:latin typeface="Times New Roman"/>
              </a:rPr>
              <a:t>? 1/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ЕКСПЛОЗИВНОС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ТРАЈАЊ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ЛИТИП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ЈАВА ВОДЕНЕ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РОДУЖЕНА ИНКУБАЦИЈ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РОМЕНА ОРГАНОЛЕПТИЧКИХ СВОЈСТАВА В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Карактеристике хидричних епидемија</a:t>
            </a: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? 2/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ПРИСУСТВО ИНДИКАТОРА ФЕКАЛНОГ ЗАГАЂЕЊА И ЕВЕНТУАЛНО НАЛАЗ ПАТОГЕНОГ УЗРОЧ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ОДСУСТВО СЕЗОНСКИХ ВАРИЈ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9. ДЕМОГРАФСКО И СОЦИЈАЛНО ШАРЕНИЛО ОБОЛЕЛ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хидричних епидемија</a:t>
            </a:r>
            <a:r>
              <a:rPr b="0" lang="sr-CS" sz="4000" spc="-1" strike="noStrike">
                <a:solidFill>
                  <a:srgbClr val="ccecff"/>
                </a:solidFill>
                <a:latin typeface="Times New Roman"/>
              </a:rPr>
              <a:t>?</a:t>
            </a: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 3/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Е ГРУПЕ ЗДРАВИХ И ОБОЛЕЛ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а група здравих (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ивна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а груп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а група оболелих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зитивна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контролна груп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“КОНТАКТНИ РЕП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ХР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деална средина за опстанак микроорганизама и размножав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ут преношења многих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АРАЗНИХ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боле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ут преношења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ЕЗАРАЗНИХ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болест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Индиректни пренос- ХРА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имарна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контамин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ран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е обрад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садржи проузроковаче болести односно отровне супстанције различитог порек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екундарна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контамин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нтаминациј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оком обрад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и транспор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ecff"/>
                </a:solidFill>
                <a:latin typeface="Times New Roman"/>
              </a:rPr>
              <a:t>НАМИРНИЦЕ ЕПИДЕМИОЛОШКИ ИНТЕРЕСАНТНИЈЕ ОД ОСТАЛИХ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МЛЕКО И МЛЕЧНИ ПРОИЗВО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МЕСО И МЕСНЕ ПРЕРАЂЕВИН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ЈА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ВОЋЕ И ПОВРЋ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ХЛАДНА ПРЕДЈ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Карактеристике </a:t>
            </a:r>
            <a:r>
              <a:rPr b="1" lang="sr-C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лиментарних</a:t>
            </a: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 епидемија? 1/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ЕКСПЛОЗИВНО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ИСОК МОРБИДИТ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РАТКО ТРАЈАЊЕ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МОНОТИП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СКРАЋЕНА ИНКУБ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СЕЗОНСКИ КАРАК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алиментарних епидемија? 2/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534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Times New Roman"/>
              </a:rPr>
              <a:t>7. КОНТРОЛНА ГРУПА ЗДРАВИХ И ОБОЛЕЛИХ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“КОНТАКТНИ РЕП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. ВА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представља повољну средину за микроорганиз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ма значајну улогу за преношење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057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Начини преношења микроорганизама ваздухом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3152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Капљична језг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Праш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Начини преношења микроорганизама ваздухом ? 1/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апљична језг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итније Флигеове капи трансформишу се у капљична језгра (нуклеуси 1-10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μ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- ВАЗДУ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аздухом се прено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микроорганизми и други биолошки агенс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физички агенс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хемијски аген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91440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аерогених епидемија</a:t>
            </a: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пидемије болести које се преносе ВАЗДУХОМ (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апљична језгра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ашина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) сличне карактеристикама капљичних епидем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ноге болести се истовремено преносе и КАПЉИЦАМА и ваздух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аерогених епидемија</a:t>
            </a: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Експлозивно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2. Масовно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3. Висок морбидит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-ВЕКТО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ЕКТО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Живи преносилац који преноси инфективни агенс са заражене јединке или њених излучевина до осетљиве јединке, њене хране или непосредне околи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ипадају колу зглавкара (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rthropod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ебан епидемиолошки значај имају представници класа инсеката (ваши, комарци, буве, стенице, муве) и паукова (крпељи и грињ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ВЕКТО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а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у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мар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рпељ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800" spc="-1" strike="noStrike">
              <a:solidFill>
                <a:srgbClr val="afe1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afe1ff"/>
                </a:solidFill>
                <a:latin typeface="Arial"/>
              </a:rPr>
              <a:t>У 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преношењу заразни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болести, </a:t>
            </a:r>
            <a:r>
              <a:rPr b="1" lang="sr-CS" sz="4800" spc="-1" strike="noStrike">
                <a:solidFill>
                  <a:srgbClr val="afe1ff"/>
                </a:solidFill>
                <a:latin typeface="Arial"/>
              </a:rPr>
              <a:t>ВЕКТОР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(припадају колу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зглавкара) имају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1100"/>
              </a:spcBef>
              <a:buClr>
                <a:srgbClr val="afe1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Биолошку, активну улог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1100"/>
              </a:spcBef>
              <a:buClr>
                <a:srgbClr val="afe1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Механичку, пасивну улог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800" spc="-1" strike="noStrike">
              <a:solidFill>
                <a:srgbClr val="afe1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afe1ff"/>
                </a:solidFill>
                <a:latin typeface="Arial"/>
              </a:rPr>
              <a:t>В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ектори имај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4400" spc="-1" strike="noStrike" u="sng">
                <a:solidFill>
                  <a:srgbClr val="ffffff"/>
                </a:solidFill>
                <a:uFillTx/>
                <a:latin typeface="Arial"/>
              </a:rPr>
              <a:t>биолошку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 улогу ако с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проузроковачи у њима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spcBef>
                <a:spcPts val="1001"/>
              </a:spcBef>
              <a:buClr>
                <a:srgbClr val="afe1ff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азмножавај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spcBef>
                <a:spcPts val="1001"/>
              </a:spcBef>
              <a:buClr>
                <a:srgbClr val="afe1ff"/>
              </a:buClr>
              <a:buSzPct val="80000"/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пролазе кроз одређен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азвојну фаз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800" spc="-1" strike="noStrike">
              <a:solidFill>
                <a:srgbClr val="afe1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afe1ff"/>
                </a:solidFill>
                <a:latin typeface="Arial"/>
              </a:rPr>
              <a:t>Б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олести које пренос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хематофагни вектори кој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имају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специфичну, биолош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улогу зову се:</a:t>
            </a:r>
            <a:r>
              <a:rPr b="1" i="1" lang="sr-CS" sz="3600" spc="-1" strike="noStrike">
                <a:solidFill>
                  <a:srgbClr val="afe1ff"/>
                </a:solidFill>
                <a:latin typeface="Arial"/>
              </a:rPr>
              <a:t>ТРАНСМИСИВН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3600" spc="-1" strike="noStrike">
                <a:solidFill>
                  <a:srgbClr val="afe1ff"/>
                </a:solidFill>
                <a:latin typeface="Arial"/>
              </a:rPr>
              <a:t>преносним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) ил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крвним, јер се узрочници тих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зараза налазе у крв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ДИРЕКТНИ ИЛИ НЕПОСРЕДНИ  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физички додир резервоара и здраве особ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значајан за преношење проузроковача осетљивих у спољашњој среди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27756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afe1ff"/>
                </a:solidFill>
                <a:latin typeface="Arial"/>
              </a:rPr>
              <a:t>МЕХАНИЧКА УЛОГ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На деловима тела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вектора и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проласком кроз његов ГИТ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пренес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се проузроковачи заразни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болести </a:t>
            </a: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на храну, предмет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и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ређе до </a:t>
            </a: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осетљив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особ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Механизам НЕ подразумева развој НИ размножавање узрочника 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вектор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Ваш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пегавац и вашљиву повратну грозниц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скључиви паразити ч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 унутрашњој страни рубља, на тело прелазе ради крвног об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БУВ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проузроковаче куге и мишјег пегав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јчешће се хране крвљу глодара и домаћих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 човека прелазе у недостатку уобичајених домаћ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Комарц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 род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opheles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проузроковаче малар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 род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Culex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узрочнике филаријазе и неке арбовирусе узрочнике менингоенцефалити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 род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edes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узрочнике жуте грознице и денг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hlebotomusi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у преносиоци лајшманијазе и папатачи грозни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Arial"/>
              </a:rPr>
              <a:t>K</a:t>
            </a: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РПЕЉ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иоци проузроковача вирусних менингоенцефалитиса, већине пегавих грозница, лајмск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Векторске заразне болес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нтропонозе, за које је резервоар човек (пегавац, маларија, повратни вашљиви тифу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нтропозоонозе, за које су резервоари животиње (туларемија, куга, вирусни менингоенцефалити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д неких обољења резервоари могу бити и животиње и (жута грозница, кала-аза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Карактеристика векторских антропозооно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енденција ка стварању ензоотичних жаришта ( хеморагичне грознице, крпељске менингоенцефалитисе, крпељске повратне грознице, лајшманијазу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Епидемиолошке карактеристике векторских инфекц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актори спољне средине утичу на епидемиолошку ситуацију преко свог деловања на вект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Ендемски карактер, географска распрострањеност и сезонска учесталост зависе од механизама локалног преживљавања проузроковача у неповољним условима или поновног уношења у одговарајуће ендемско подруч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Епидемиолошке карактеристике векторских инфекц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д условима погодним за векторе, односно, ако су у питању антропозоонозе, за њихове анималне резервоаре, векторске болести могу за кратко време да угрозе велики број љу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Епидемиолошке карактеристике векторских инфекц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оцијално-економски услови који омогућавају или размножавање вектора или повећавају изложеност зарази и могућност уједа зглавк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ДИРЕКТНИ ИЛИ НЕПОСРЕДНИ КОНТАКТ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ПРЕК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загађених ру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љупц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(респираторне-грип, осипне грознице, инфективна мононуклеоз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лног акт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сида, сифилис, гонореј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Б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г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рођајног канал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гонореја, сифилис, си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)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ујед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беснил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ПЉИ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Узрочниц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заразних болести са капљицама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луз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Флигео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капљице) из резервоара доспевају у вазд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угроженији-он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и су најближи резервоару (повећањем удаљености осетљиве особе од резервоара заразе смањује се могућност заражавањ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АПЉ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ЛИГЕОВА капљ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ода, беланчевине, минералне с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еличина 1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омет у ваздуху (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 зависи од величине и брз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начај у преношењу проузроковача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сетљивих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спољ. среди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једноставнији пут преношења заразних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може се битно утицати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евентивним мерам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на расејавање микроорганизама капљиц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ебан значај имају у пренасељеним градским условима (“болести цивилизациј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”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 u="sng">
                <a:solidFill>
                  <a:srgbClr val="ccecff"/>
                </a:solidFill>
                <a:uFillTx/>
                <a:latin typeface="Times New Roman"/>
              </a:rPr>
              <a:t>Карактеристике капљичних епидемиј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Експлозивно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нагло настају, шире се брзином саобраћајних средст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Масовност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(велики број оболелих) и висок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M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лакоћа ширењ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-велики број особа изложен агенсу у густо насељеним подручј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-велики број субклиничких облика, мали број манифестно оболел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Циклично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sr-CS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езонски карактер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(у хладним месецима, груписање људи у затвореним просторијам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sr-CS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екуларна цикличност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(у вези са природним прираштајем и стањем колективног имунитет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морбили-сваке друге годи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варичела-сваких неколико год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инфлуенца-велики интервални тала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АНСПЛАЦЕНТАР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преношење биолошког агенса са инфициране мајке на плод преко плацен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25% новорођенчади чије су мајке у прва три месеца имале рубелу развија се рубела конгенитални синд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7-01-09T10:24:22Z</dcterms:modified>
  <cp:revision>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